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0.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A3A2-2140-4284-8D42-1D89757B9FE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7640" y="744480"/>
            <a:ext cx="4962600" cy="3722760"/>
          </a:xfrm>
          <a:prstGeom prst="rect">
            <a:avLst/>
          </a:prstGeom>
          <a:ln w="0">
            <a:noFill/>
          </a:ln>
        </p:spPr>
      </p:sp>
      <p:sp>
        <p:nvSpPr>
          <p:cNvPr id="277"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done by helping students know and like you. Use natural occasions to tell students who you are, what you stand for, what you will and won’t ask them to do and what you will not do for them. Show that you are always willing to help.</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ing methods that encourage students to draw them out rather than trying to force information into the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seful work consists of knowledge, and skills that students will use in their lives, at times you may have to point out the value of new learnings, but this value needs to become quickly evident or students will not make a sustained effort to learn Information to be taught and learned must meet one or more of the following criteria:</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fo is directly related to an important skill</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fo is something students express a desire to learn</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info is something the teacher believes is especially useful</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Always ask students to do the best they can quality work occurs slowly and needs to be nurtured – teachers can – discuss quality work so that students understand what it means – start with an assignment that is important enough for students to want to do well – ask students to do their best work – do not grade it – grades indicate that the work is finished</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Quality comes through modifications and made through continued effort- students can be helped to make value judgements about their work - </a:t>
            </a:r>
            <a:endParaRPr b="0" lang="en-US" sz="1200" spc="-1" strike="noStrike">
              <a:solidFill>
                <a:srgbClr val="000000"/>
              </a:solidFill>
              <a:latin typeface="Calibri"/>
            </a:endParaRPr>
          </a:p>
        </p:txBody>
      </p:sp>
      <p:sp>
        <p:nvSpPr>
          <p:cNvPr id="2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D6D6-97AB-4542-BD07-2E5F4BD3B45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17640" y="744480"/>
            <a:ext cx="4962600" cy="3722760"/>
          </a:xfrm>
          <a:prstGeom prst="rect">
            <a:avLst/>
          </a:prstGeom>
          <a:ln w="0">
            <a:noFill/>
          </a:ln>
        </p:spPr>
      </p:sp>
      <p:sp>
        <p:nvSpPr>
          <p:cNvPr id="2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chers must intervene when class rules, agreements etc are broken – interventions should be non punitive and are intended to stop the misbehavi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g  Johathan has come back into your classroom after recess obviously quite upset – as you begin the lesson he turns around heatedly and throws something at another student. Glasser would suggest that the teacher s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looks like you have a problem Jonathan.  How can I help you to solve it? If you will calm down I will discuss it with you in a little while. This is said without emotion as anger in your voice will put Jonathan on the defensive – at an opportune time when Jonathan settles you could 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were you doing when the problem started? Was it against the rules? Can we work things out so that it won’t happen again? What could you or I do to keep it from happ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 time is spent trying to figure out whose fault it was and NO blame is assigned</a:t>
            </a:r>
            <a:endParaRPr b="0" lang="en-US" sz="1200" spc="-1" strike="noStrike">
              <a:solidFill>
                <a:srgbClr val="000000"/>
              </a:solidFill>
              <a:latin typeface="Calibri"/>
            </a:endParaRPr>
          </a:p>
        </p:txBody>
      </p:sp>
      <p:sp>
        <p:nvSpPr>
          <p:cNvPr id="2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313F-D4EE-406A-ACA6-845558C1C2C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D30A8-D117-4D16-9F2A-B5E584B39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1F54D-F475-44D5-8179-AF16C0963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739C8-B7F1-4068-AC8B-7EF03D9C1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2A705-3671-434F-9624-4B2E620B4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1D175-9C97-46CB-A2E9-65D8747447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B64FE-8543-4F19-A836-CC4A25C68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71F1D-783B-4AD4-946A-C86878832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0502E-FEFD-4061-B369-48B1D6468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BFEBC-E8E2-433E-BBDC-B37A5CF88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372BA-7D19-498E-8337-A629CEF17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66A50-DC5D-4FF4-BCBA-5699D2DFC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00208-0936-4238-A07B-3130D9003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FB666-6E87-4E39-A99D-45617F8A4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3C1EE-794B-407A-9C8E-FD5230E90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C5373-2906-4AF5-B1B2-B7AEE223B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460E4-3516-49AD-B887-D67E78EC4B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B4464-25FE-4BFE-A675-ACAF65F1E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AE9147-59A8-4D38-A972-89176195B0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733BB-6921-4316-BEA8-E1D6F56E6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68BB91-CA00-45CC-8CB6-129EDA8A91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15A82-9A1B-45EE-B658-EB8A0BFAE1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A1676-5BE5-428C-BEFE-2BA4292A8D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9E0C4-34E5-4CF6-8F13-562494CD5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008127-6D58-4969-9859-7FB99F896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CB576-A6AD-4CC5-8FF8-A621E5FFD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C359A-3EE7-4C26-8BB2-DD37B0DC5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A3858-F1D2-4C0B-A3D0-96AD278828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A94C22-00C4-448C-A48C-969D1C105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2853CD-A816-435A-976E-963930EC64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49AB99-DBBA-4258-B7C5-3AA0E63C5F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D7471A-67B0-4ED0-8447-F16B53E2F8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6CC086-6D4C-4841-98BD-F72E98420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4B0C9-02A0-44C7-8FEE-D8BAF16C0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C55FE-FEF0-45E0-BA0E-F6526BD03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02F9B7-9B33-46A9-90CA-1B2A785CB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DDA8F8-2669-4DA5-8DEA-2A8C126F7C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32C7E-3FE9-4AD8-AF65-1B7C1E5D8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279DBE-E3E9-4600-A61F-227D82C75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DFAF14-3CFD-4457-B9D4-8F66E51C8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DDE3F-57D3-4865-ABB2-1F422B218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32888A-86C0-42B8-A5FC-611152A3D6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FF6DFD-105D-432D-9F73-C78440686A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31A5CE-D906-4EC9-B66A-5900572434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70706-81B7-4FEA-A6DA-E68170D71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463F3-1F5B-4B18-ACA1-107E7D9F2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D1502-C615-4249-BD7E-5AF2F7E80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0117-1489-40E1-A974-BE3AF6DDA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0A3DA-0B9E-4064-9331-AC5B3D287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EC98-EF50-4DD9-94C4-CEFB65F0E5D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2634-AA46-4459-A883-C20BA3CAC22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F196-0820-4212-AF61-C74FDB8021D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B288-8582-4330-9449-F88086C75D8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hyperlink" Target="http://teachertube.com/viewVideo.php?video_id=1848&amp;title=Creating_a_positive_learning_environment" TargetMode="External"/><Relationship Id="rId2" Type="http://schemas.openxmlformats.org/officeDocument/2006/relationships/hyperlink" Target="http://www.youtube.com/watch?v=HEh8Z0sbiRE"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brainyquote.com/quotes/quotes/w/williamgla345808.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flectio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1"/>
              </a:rPr>
              <a:t>http://teachertube.com/viewVideo.php?video_id=1848&amp;title=Creating_a_positive_learning_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2"/>
              </a:rPr>
              <a:t>http://www.youtube.com/watch?v=HEh8Z0sbiR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urvival, safety and security</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positive learning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learning commun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students are fearful and emotionally insecure, their ability to learn is significantly reduced</a:t>
            </a:r>
            <a:endParaRPr b="0" lang="en-US" sz="2600" spc="-1" strike="noStrike">
              <a:solidFill>
                <a:srgbClr val="000000"/>
              </a:solidFill>
              <a:latin typeface="Constantia"/>
            </a:endParaRPr>
          </a:p>
        </p:txBody>
      </p:sp>
      <p:pic>
        <p:nvPicPr>
          <p:cNvPr id="227" name="Picture 5" descr="social-media-marketing"/>
          <p:cNvPicPr/>
          <p:nvPr/>
        </p:nvPicPr>
        <p:blipFill>
          <a:blip r:embed="rId1"/>
          <a:stretch/>
        </p:blipFill>
        <p:spPr>
          <a:xfrm>
            <a:off x="2459160" y="4076640"/>
            <a:ext cx="4279680" cy="219384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ove, belonging and acceptance</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tention seeking behavio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others give approval, satisfaction res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need to be told, over and over, that they are loved – not because of what they do, not in spite of what they do, </a:t>
            </a:r>
            <a:r>
              <a:rPr b="0" lang="en-AU" sz="2600" spc="-1" strike="noStrike">
                <a:solidFill>
                  <a:srgbClr val="009dd9"/>
                </a:solidFill>
                <a:latin typeface="Constantia"/>
              </a:rPr>
              <a:t>but just for who they are!</a:t>
            </a:r>
            <a:endParaRPr b="0" lang="en-US" sz="2600" spc="-1" strike="noStrike">
              <a:solidFill>
                <a:srgbClr val="000000"/>
              </a:solidFill>
              <a:latin typeface="Constantia"/>
            </a:endParaRPr>
          </a:p>
        </p:txBody>
      </p:sp>
      <p:pic>
        <p:nvPicPr>
          <p:cNvPr id="230" name="Picture 5" descr="social-media-marketing"/>
          <p:cNvPicPr/>
          <p:nvPr/>
        </p:nvPicPr>
        <p:blipFill>
          <a:blip r:embed="rId1"/>
          <a:stretch/>
        </p:blipFill>
        <p:spPr>
          <a:xfrm>
            <a:off x="2363760" y="4564080"/>
            <a:ext cx="3745080" cy="191916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4617b"/>
                </a:solidFill>
                <a:latin typeface="Calibri"/>
              </a:rPr>
              <a:t>Personal power, competency and achievement</a:t>
            </a:r>
            <a:endParaRPr b="0" lang="en-US" sz="3400" spc="-1" strike="noStrike">
              <a:solidFill>
                <a:srgbClr val="04617b"/>
              </a:solidFill>
              <a:latin typeface="Calibri"/>
            </a:endParaRPr>
          </a:p>
        </p:txBody>
      </p:sp>
      <p:sp>
        <p:nvSpPr>
          <p:cNvPr id="232" name=""/>
          <p:cNvSpPr txBox="1"/>
          <p:nvPr/>
        </p:nvSpPr>
        <p:spPr>
          <a:xfrm>
            <a:off x="46836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We need sufficient power to regulate our l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ntrol, master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Power is generally satisfied if we are respected and have a sense of impor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n students are challenged and achieve they satisfy very basic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NOT ‘power over’ but ‘power to’ oneself</a:t>
            </a:r>
            <a:endParaRPr b="0" lang="en-US" sz="2600" spc="-1" strike="noStrike">
              <a:solidFill>
                <a:srgbClr val="000000"/>
              </a:solidFill>
              <a:latin typeface="Constanti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Freedom, independence and autonomy</a:t>
            </a:r>
            <a:endParaRPr b="0" lang="en-US" sz="3800" spc="-1" strike="noStrike">
              <a:solidFill>
                <a:srgbClr val="04617b"/>
              </a:solidFill>
              <a:latin typeface="Calibri"/>
            </a:endParaRPr>
          </a:p>
        </p:txBody>
      </p:sp>
      <p:sp>
        <p:nvSpPr>
          <p:cNvPr id="234" name=""/>
          <p:cNvSpPr txBox="1"/>
          <p:nvPr/>
        </p:nvSpPr>
        <p:spPr>
          <a:xfrm>
            <a:off x="39528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ise teachers (and parents) provide </a:t>
            </a:r>
            <a:r>
              <a:rPr b="0" lang="en-AU" sz="2600" spc="-1" strike="noStrike">
                <a:solidFill>
                  <a:srgbClr val="009dd9"/>
                </a:solidFill>
                <a:latin typeface="Constantia"/>
              </a:rPr>
              <a:t>an increasing level of freedom as students show an inclination and ability to use it wis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ust explicitly </a:t>
            </a:r>
            <a:r>
              <a:rPr b="0" lang="en-AU" sz="2600" spc="-1" strike="noStrike">
                <a:solidFill>
                  <a:srgbClr val="009dd9"/>
                </a:solidFill>
                <a:latin typeface="Constantia"/>
              </a:rPr>
              <a:t>teach </a:t>
            </a:r>
            <a:r>
              <a:rPr b="0" lang="en-AU" sz="2600" spc="-1" strike="noStrike">
                <a:solidFill>
                  <a:srgbClr val="000000"/>
                </a:solidFill>
                <a:latin typeface="Constantia"/>
              </a:rPr>
              <a:t>decision making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nrestrained freedom causes cha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o much control causes rebell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lance between freedom and control necessary</a:t>
            </a:r>
            <a:endParaRPr b="0" lang="en-US" sz="2600" spc="-1" strike="noStrike">
              <a:solidFill>
                <a:srgbClr val="000000"/>
              </a:solidFill>
              <a:latin typeface="Constanti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un and learning</a:t>
            </a:r>
            <a:endParaRPr b="0" lang="en-US" sz="5000" spc="-1" strike="noStrike">
              <a:solidFill>
                <a:srgbClr val="04617b"/>
              </a:solidFill>
              <a:latin typeface="Calibri"/>
            </a:endParaRPr>
          </a:p>
        </p:txBody>
      </p:sp>
      <p:sp>
        <p:nvSpPr>
          <p:cNvPr id="236" name=""/>
          <p:cNvSpPr txBox="1"/>
          <p:nvPr/>
        </p:nvSpPr>
        <p:spPr>
          <a:xfrm>
            <a:off x="39528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Children – all ages – driven by the need to have fu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dults pretend they don’t have this need –less so than in previous y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un is as basic as any other ne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on’t mistake ‘fun’ for ‘entertainment’; fun can be very simple, be about experiencing success, learning, finding something really interesting</a:t>
            </a:r>
            <a:endParaRPr b="0" lang="en-US" sz="2600" spc="-1" strike="noStrike">
              <a:solidFill>
                <a:srgbClr val="000000"/>
              </a:solidFill>
              <a:latin typeface="Constanti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38" name=""/>
          <p:cNvSpPr txBox="1"/>
          <p:nvPr/>
        </p:nvSpPr>
        <p:spPr>
          <a:xfrm>
            <a:off x="684360" y="1483920"/>
            <a:ext cx="8208720" cy="4530600"/>
          </a:xfrm>
          <a:prstGeom prst="rect">
            <a:avLst/>
          </a:prstGeom>
          <a:noFill/>
          <a:ln w="0">
            <a:noFill/>
          </a:ln>
        </p:spPr>
        <p:txBody>
          <a:bodyPr anchor="t">
            <a:normAutofit fontScale="99000"/>
          </a:bodyPr>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Which basic need is not being met in the following:</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look out of the window instead of doing their work</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ustin is afraid to walk home alone after school</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zanne sits by herself at lunch time</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ason feels the teacher does not like him</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are not involved in making decisions about how topics will be studied</a:t>
            </a:r>
            <a:endParaRPr b="0" lang="en-US" sz="2600" spc="-1" strike="noStrike">
              <a:solidFill>
                <a:srgbClr val="000000"/>
              </a:solidFill>
              <a:latin typeface="Constanti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The ways in which we fulfil psychological needs can be summarized as follows:</a:t>
            </a:r>
            <a:endParaRPr b="0" lang="en-US" sz="3200" spc="-1" strike="noStrike">
              <a:solidFill>
                <a:srgbClr val="04617b"/>
              </a:solidFill>
              <a:latin typeface="Calibri"/>
            </a:endParaRPr>
          </a:p>
        </p:txBody>
      </p:sp>
      <p:sp>
        <p:nvSpPr>
          <p:cNvPr id="240" name=""/>
          <p:cNvSpPr txBox="1"/>
          <p:nvPr/>
        </p:nvSpPr>
        <p:spPr>
          <a:xfrm>
            <a:off x="468360" y="220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nstantia"/>
              </a:rPr>
              <a:t>     </a:t>
            </a:r>
            <a:r>
              <a:rPr b="0" lang="en-AU" sz="2600" spc="-1" strike="noStrike">
                <a:solidFill>
                  <a:srgbClr val="000000"/>
                </a:solidFill>
                <a:latin typeface="Constantia"/>
              </a:rPr>
              <a:t>1. We fulfill the need to belong by loving, sharing, and cooperating with others.</a:t>
            </a:r>
            <a:br>
              <a:rPr sz="2600"/>
            </a:br>
            <a:r>
              <a:rPr b="0" lang="en-AU" sz="2600" spc="-1" strike="noStrike">
                <a:solidFill>
                  <a:srgbClr val="000000"/>
                </a:solidFill>
                <a:latin typeface="Constantia"/>
              </a:rPr>
              <a:t>     2. We fulfill the need for power by achieving, accomplishing, and being recognized and respected.</a:t>
            </a:r>
            <a:br>
              <a:rPr sz="2600"/>
            </a:br>
            <a:r>
              <a:rPr b="0" lang="en-AU" sz="2600" spc="-1" strike="noStrike">
                <a:solidFill>
                  <a:srgbClr val="000000"/>
                </a:solidFill>
                <a:latin typeface="Constantia"/>
              </a:rPr>
              <a:t>     3. We fulfill the need for freedom by making choices in our lives.</a:t>
            </a:r>
            <a:br>
              <a:rPr sz="2600"/>
            </a:br>
            <a:r>
              <a:rPr b="0" lang="en-AU" sz="2600" spc="-1" strike="noStrike">
                <a:solidFill>
                  <a:srgbClr val="000000"/>
                </a:solidFill>
                <a:latin typeface="Constantia"/>
              </a:rPr>
              <a:t>     4. We fulfill the need for fun by laughing and playing. </a:t>
            </a:r>
            <a:br>
              <a:rPr sz="2600"/>
            </a:br>
            <a:endParaRPr b="0" lang="en-US" sz="2600" spc="-1" strike="noStrike">
              <a:solidFill>
                <a:srgbClr val="000000"/>
              </a:solidFill>
              <a:latin typeface="Constanti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7560"/>
            <a:ext cx="7772400" cy="703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So...</a:t>
            </a:r>
            <a:endParaRPr b="0" lang="en-US" sz="4500" spc="-1" strike="noStrike">
              <a:solidFill>
                <a:srgbClr val="04617b"/>
              </a:solidFill>
              <a:latin typeface="Calibri"/>
            </a:endParaRPr>
          </a:p>
        </p:txBody>
      </p:sp>
      <p:sp>
        <p:nvSpPr>
          <p:cNvPr id="242" name=""/>
          <p:cNvSpPr txBox="1"/>
          <p:nvPr/>
        </p:nvSpPr>
        <p:spPr>
          <a:xfrm>
            <a:off x="826920" y="1125000"/>
            <a:ext cx="7772400" cy="4529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very individual has the power to change their lives for the better based on the choices they mak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 </a:t>
            </a:r>
            <a:r>
              <a:rPr b="0" lang="en-AU" sz="2400" spc="-1" strike="noStrike">
                <a:solidFill>
                  <a:srgbClr val="000000"/>
                </a:solidFill>
                <a:latin typeface="Constantia"/>
              </a:rPr>
              <a:t>A person can make the proper choices and take greater responsibility for their actions by asking themselves the following questio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onstantia"/>
              </a:rPr>
              <a:t>What do you want?</a:t>
            </a:r>
            <a:br>
              <a:rPr sz="2400"/>
            </a:br>
            <a:r>
              <a:rPr b="0" lang="en-AU" sz="2400" spc="-1" strike="noStrike">
                <a:solidFill>
                  <a:srgbClr val="000000"/>
                </a:solidFill>
                <a:latin typeface="Constantia"/>
              </a:rPr>
              <a:t>What are you doing to achieve what you want?</a:t>
            </a:r>
            <a:br>
              <a:rPr sz="2400"/>
            </a:br>
            <a:r>
              <a:rPr b="0" lang="en-AU" sz="2400" spc="-1" strike="noStrike">
                <a:solidFill>
                  <a:srgbClr val="000000"/>
                </a:solidFill>
                <a:latin typeface="Constantia"/>
              </a:rPr>
              <a:t>Is it working?</a:t>
            </a:r>
            <a:br>
              <a:rPr sz="2400"/>
            </a:br>
            <a:r>
              <a:rPr b="0" lang="en-AU" sz="2400" spc="-1" strike="noStrike">
                <a:solidFill>
                  <a:srgbClr val="000000"/>
                </a:solidFill>
                <a:latin typeface="Constantia"/>
              </a:rPr>
              <a:t>What are your plans or options?</a:t>
            </a:r>
            <a:br>
              <a:rPr sz="2400"/>
            </a:br>
            <a:endParaRPr b="0" lang="en-US" sz="2400" spc="-1" strike="noStrike">
              <a:solidFill>
                <a:srgbClr val="000000"/>
              </a:solidFill>
              <a:latin typeface="Constanti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Boss Teachers vs. Lead Teachers</a:t>
            </a:r>
            <a:endParaRPr b="0" lang="en-US" sz="3800" spc="-1" strike="noStrike">
              <a:solidFill>
                <a:srgbClr val="04617b"/>
              </a:solidFill>
              <a:latin typeface="Calibri"/>
            </a:endParaRPr>
          </a:p>
        </p:txBody>
      </p:sp>
      <p:sp>
        <p:nvSpPr>
          <p:cNvPr id="244" name=""/>
          <p:cNvSpPr txBox="1"/>
          <p:nvPr/>
        </p:nvSpPr>
        <p:spPr>
          <a:xfrm>
            <a:off x="395280" y="155700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Boss:  external control psychology</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Teachers who dictate procedures, order students to work, berate etc are ineffective</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Lead:  internal control psychology</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eachers who provide a stimulating environment, encourage students and help them as much as possible are effective </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ead Teaching</a:t>
            </a: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oss teachers – set tasks and standards for student learning – they talk rather than demonstrate and rarely get student input – mark without involving students in evaluation – use coercion</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Lead teachers – motivation lies in students needs and interests – time spent organising interesting activities – assist – discuss the curriculum – identify topics of interest – quality – demonstrate – non coercive classroom</a:t>
            </a: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                                       </a:t>
            </a:r>
            <a:r>
              <a:rPr b="0" lang="en-AU" sz="2600" spc="-1" strike="noStrike">
                <a:solidFill>
                  <a:srgbClr val="ff0000"/>
                </a:solidFill>
                <a:latin typeface="Constantia"/>
              </a:rPr>
              <a:t>so........</a:t>
            </a:r>
            <a:endParaRPr b="0" lang="en-US" sz="2600" spc="-1" strike="noStrike">
              <a:solidFill>
                <a:srgbClr val="000000"/>
              </a:solidFill>
              <a:latin typeface="Constanti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Rectangle 2" descr=""/>
          <p:cNvPicPr/>
          <p:nvPr/>
        </p:nvPicPr>
        <p:blipFill>
          <a:blip r:embed="rId1"/>
          <a:stretch/>
        </p:blipFill>
        <p:spPr>
          <a:xfrm>
            <a:off x="1182600" y="1139760"/>
            <a:ext cx="7510680" cy="1627200"/>
          </a:xfrm>
          <a:prstGeom prst="rect">
            <a:avLst/>
          </a:prstGeom>
          <a:ln w="0">
            <a:noFill/>
          </a:ln>
        </p:spPr>
      </p:pic>
      <p:pic>
        <p:nvPicPr>
          <p:cNvPr id="205" name="Picture 5" descr="Choice Theory Counseling by Glasser - Textbooks - 15-CEUs"/>
          <p:cNvPicPr/>
          <p:nvPr/>
        </p:nvPicPr>
        <p:blipFill>
          <a:blip r:embed="rId2"/>
          <a:stretch/>
        </p:blipFill>
        <p:spPr>
          <a:xfrm>
            <a:off x="1835280" y="2781360"/>
            <a:ext cx="6116400" cy="3743280"/>
          </a:xfrm>
          <a:prstGeom prst="rect">
            <a:avLst/>
          </a:prstGeom>
          <a:ln w="0">
            <a:noFill/>
          </a:ln>
        </p:spPr>
      </p:pic>
      <p:pic>
        <p:nvPicPr>
          <p:cNvPr id="206" name="Picture 5" descr="http://www.thekidcounselor.com/articles/wp-content/uploads/2009/02/choices.jpg"/>
          <p:cNvPicPr/>
          <p:nvPr/>
        </p:nvPicPr>
        <p:blipFill>
          <a:blip r:embed="rId3"/>
          <a:stretch/>
        </p:blipFill>
        <p:spPr>
          <a:xfrm>
            <a:off x="4859280" y="2765520"/>
            <a:ext cx="3025800" cy="368784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10920" y="692280"/>
            <a:ext cx="7993080" cy="4962240"/>
          </a:xfrm>
          <a:prstGeom prst="rect">
            <a:avLst/>
          </a:prstGeom>
          <a:noFill/>
          <a:ln w="0">
            <a:noFill/>
          </a:ln>
        </p:spPr>
        <p:txBody>
          <a:bodyPr anchor="t">
            <a:normAutofit fontScale="83000"/>
          </a:bodyPr>
          <a:p>
            <a:pPr marL="226440" indent="-22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onstantia"/>
              </a:rPr>
              <a:t>Boss teacher vs Leader teacher</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drives. A leader lead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relies on authority. A leader relies on cooperation.</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says "I." A leader says "W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fear. A leader creates confidenc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knows how. A leader shows how.</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resentment. A leader breeds enthusiasm.</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fixes blame. A leader fixes mistake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makes work drudgery. A leader makes work interesting.</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Connecting Habits</a:t>
            </a:r>
            <a:br>
              <a:rPr sz="4500"/>
            </a:b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Suppor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ncourag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Listen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ccep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rus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spec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Negotiating differences</a:t>
            </a:r>
            <a:endParaRPr b="0" lang="en-US" sz="3200" spc="-1" strike="noStrike">
              <a:solidFill>
                <a:srgbClr val="000000"/>
              </a:solidFill>
              <a:latin typeface="Constantia"/>
            </a:endParaRPr>
          </a:p>
        </p:txBody>
      </p:sp>
      <p:pic>
        <p:nvPicPr>
          <p:cNvPr id="250" name="Picture 5" descr="social-media-marketing"/>
          <p:cNvPicPr/>
          <p:nvPr/>
        </p:nvPicPr>
        <p:blipFill>
          <a:blip r:embed="rId1"/>
          <a:stretch/>
        </p:blipFill>
        <p:spPr>
          <a:xfrm>
            <a:off x="4859280" y="1557360"/>
            <a:ext cx="3610080" cy="316692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Deadly Habits</a:t>
            </a:r>
            <a:br>
              <a:rPr sz="4500"/>
            </a:br>
            <a:endParaRPr b="0" lang="en-US" sz="4500" spc="-1" strike="noStrike">
              <a:solidFill>
                <a:srgbClr val="04617b"/>
              </a:solidFill>
              <a:latin typeface="Calibri"/>
            </a:endParaRPr>
          </a:p>
        </p:txBody>
      </p:sp>
      <p:sp>
        <p:nvSpPr>
          <p:cNvPr id="252" name=""/>
          <p:cNvSpPr txBox="1"/>
          <p:nvPr/>
        </p:nvSpPr>
        <p:spPr>
          <a:xfrm>
            <a:off x="395280" y="15570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riticiz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lam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omplai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gg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hreate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unish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Bribing or rewarding to control</a:t>
            </a:r>
            <a:endParaRPr b="0" lang="en-US" sz="3200" spc="-1" strike="noStrike">
              <a:solidFill>
                <a:srgbClr val="000000"/>
              </a:solidFill>
              <a:latin typeface="Constanti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4617b"/>
                </a:solidFill>
                <a:latin typeface="Calibri"/>
              </a:rPr>
              <a:t>Using Choice Theory and Quality education to Establish Class Discipline</a:t>
            </a:r>
            <a:endParaRPr b="0" lang="en-US" sz="4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orcing students to learn and behave is hopel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1. provide a curriculum that is genuinely attractive to stud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2. use non coercive discipline to help students make responsible choi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3. strongly emphasize quality in all aspects of teaching and learning</a:t>
            </a:r>
            <a:endParaRPr b="0" lang="en-US" sz="2600" spc="-1" strike="noStrike">
              <a:solidFill>
                <a:srgbClr val="000000"/>
              </a:solidFill>
              <a:latin typeface="Constanti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528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Teaching through</a:t>
            </a:r>
            <a:endParaRPr b="0" lang="en-US" sz="5000" spc="-1" strike="noStrike">
              <a:solidFill>
                <a:srgbClr val="04617b"/>
              </a:solidFill>
              <a:latin typeface="Calibri"/>
            </a:endParaRPr>
          </a:p>
        </p:txBody>
      </p:sp>
      <p:sp>
        <p:nvSpPr>
          <p:cNvPr id="256" name=""/>
          <p:cNvSpPr txBox="1"/>
          <p:nvPr/>
        </p:nvSpPr>
        <p:spPr>
          <a:xfrm>
            <a:off x="250560" y="1267920"/>
            <a:ext cx="8713800" cy="4389480"/>
          </a:xfrm>
          <a:prstGeom prst="rect">
            <a:avLst/>
          </a:prstGeom>
          <a:noFill/>
          <a:ln w="0">
            <a:noFill/>
          </a:ln>
        </p:spPr>
        <p:txBody>
          <a:bodyPr anchor="t">
            <a:normAutofit fontScale="78000"/>
          </a:bodyPr>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 warm, supportive classroom environment</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Lead teaching rather than boss teaching</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School work that is useful</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Encourage students to do the best they can</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Opportunity for students to evaluate work they have done and improve it</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Help students recognize that quality work makes them feel good – natural response</a:t>
            </a:r>
            <a:endParaRPr b="0" lang="en-US" sz="3200" spc="-1" strike="noStrike">
              <a:solidFill>
                <a:srgbClr val="000000"/>
              </a:solidFill>
              <a:latin typeface="Constantia"/>
            </a:endParaRPr>
          </a:p>
          <a:p>
            <a:pPr marL="212760" indent="-21276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Help students see that quality work does not hurt self or others</a:t>
            </a:r>
            <a:endParaRPr b="0" lang="en-US" sz="3200" spc="-1" strike="noStrike">
              <a:solidFill>
                <a:srgbClr val="000000"/>
              </a:solidFill>
              <a:latin typeface="Constantia"/>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Build a Quality Classroom</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n your classroom students need to feel a sense o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longing – feel an identity with the class group and a respectful relationship with the teach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wer – feel respected and heard, influence decisions and feel risk fre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reedom – to have choice in learning path and behaviours that respect the rights of oth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 – enjoy the learning process, laugh and be excited by it</a:t>
            </a:r>
            <a:endParaRPr b="0" lang="en-US" sz="2600" spc="-1" strike="noStrike">
              <a:solidFill>
                <a:srgbClr val="000000"/>
              </a:solidFill>
              <a:latin typeface="Constantia"/>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0" name=""/>
          <p:cNvSpPr txBox="1"/>
          <p:nvPr/>
        </p:nvSpPr>
        <p:spPr>
          <a:xfrm>
            <a:off x="900000" y="1483920"/>
            <a:ext cx="7772400" cy="453060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Habits</a:t>
            </a:r>
            <a:r>
              <a:rPr b="0" lang="en-AU" sz="2400" spc="-1" strike="noStrike">
                <a:solidFill>
                  <a:srgbClr val="000000"/>
                </a:solidFill>
                <a:latin typeface="Constantia"/>
              </a:rPr>
              <a:t> – avoid ‘deadly habits’ replace with connecting habits</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e6d"/>
                </a:solidFill>
                <a:latin typeface="Constantia"/>
              </a:rPr>
              <a:t>Your Message </a:t>
            </a:r>
            <a:r>
              <a:rPr b="0" lang="en-AU" sz="2400" spc="-1" strike="noStrike">
                <a:solidFill>
                  <a:srgbClr val="000000"/>
                </a:solidFill>
                <a:latin typeface="Constantia"/>
              </a:rPr>
              <a:t>– My job is to teach you and to help you to learn – if you don’t know I’m not going to punish you – if you have a question ask me – if you need more time, I’ll give it to you – if you have an idea, I’ll listen </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Friendships</a:t>
            </a:r>
            <a:r>
              <a:rPr b="0" lang="en-AU" sz="2400" spc="-1" strike="noStrike">
                <a:solidFill>
                  <a:srgbClr val="000000"/>
                </a:solidFill>
                <a:latin typeface="Constantia"/>
              </a:rPr>
              <a:t> – we can learn a lot and have fun</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Class rules </a:t>
            </a:r>
            <a:r>
              <a:rPr b="0" lang="en-AU" sz="2400" spc="-1" strike="noStrike">
                <a:solidFill>
                  <a:srgbClr val="000000"/>
                </a:solidFill>
                <a:latin typeface="Constantia"/>
              </a:rPr>
              <a:t>– golden rule – courtesy – establish reasonable rules </a:t>
            </a:r>
            <a:endParaRPr b="0" lang="en-US" sz="2400" spc="-1" strike="noStrike">
              <a:solidFill>
                <a:srgbClr val="000000"/>
              </a:solidFill>
              <a:latin typeface="Constantia"/>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Intervene</a:t>
            </a:r>
            <a:r>
              <a:rPr b="0" lang="en-AU" sz="2200" spc="-1" strike="noStrike">
                <a:solidFill>
                  <a:srgbClr val="000000"/>
                </a:solidFill>
                <a:latin typeface="Constantia"/>
              </a:rPr>
              <a:t> – talk and listen to students – take the energy out of impending misbehaviour</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Relevant and authentic - </a:t>
            </a:r>
            <a:r>
              <a:rPr b="0" lang="en-AU" sz="2200" spc="-1" strike="noStrike">
                <a:solidFill>
                  <a:srgbClr val="000000"/>
                </a:solidFill>
                <a:latin typeface="Constantia"/>
              </a:rPr>
              <a:t>students need to be able to make use of what they learn</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Quality </a:t>
            </a:r>
            <a:r>
              <a:rPr b="0" lang="en-AU" sz="2200" spc="-1" strike="noStrike">
                <a:solidFill>
                  <a:srgbClr val="000000"/>
                </a:solidFill>
                <a:latin typeface="Constantia"/>
              </a:rPr>
              <a:t>– everyone can do competent work - encourage higher quality work – work at assignments to be brought up to A level</a:t>
            </a: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Tests</a:t>
            </a:r>
            <a:r>
              <a:rPr b="0" lang="en-AU" sz="2200" spc="-1" strike="noStrike">
                <a:solidFill>
                  <a:srgbClr val="000000"/>
                </a:solidFill>
                <a:latin typeface="Constantia"/>
              </a:rPr>
              <a:t> – learning only – used to go back over and correct any errors</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83763"/>
                </a:solidFill>
                <a:latin typeface="Constantia"/>
              </a:rPr>
              <a:t>Knowledge</a:t>
            </a:r>
            <a:r>
              <a:rPr b="0" lang="en-AU" sz="2200" spc="-1" strike="noStrike">
                <a:solidFill>
                  <a:srgbClr val="000000"/>
                </a:solidFill>
                <a:latin typeface="Constantia"/>
              </a:rPr>
              <a:t> – what we learn is useful – focus is on understanding and using information and skills</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Competency </a:t>
            </a:r>
            <a:r>
              <a:rPr b="0" lang="en-AU" sz="2200" spc="-1" strike="noStrike">
                <a:solidFill>
                  <a:srgbClr val="000000"/>
                </a:solidFill>
                <a:latin typeface="Constantia"/>
              </a:rPr>
              <a:t>– all students work to a competent level – B grade or better – nobody fails or receives a low grade – students who complete work competently are given the option of helping others to achieve a higher quality</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ct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Constantia"/>
              </a:rPr>
              <a:t>Told that the passing grade is a B or competence and that we will help you to get there, students do competent work. The lowest passing grade in the real world is competence. Why do schools accept so much less? </a:t>
            </a:r>
            <a:br>
              <a:rPr sz="2200"/>
            </a:br>
            <a:r>
              <a:rPr b="0" lang="en-AU" sz="2200" spc="-1" strike="noStrike" u="sng">
                <a:solidFill>
                  <a:srgbClr val="e2d700"/>
                </a:solidFill>
                <a:uFillTx/>
                <a:latin typeface="Constantia"/>
                <a:hlinkClick r:id="rId1"/>
              </a:rPr>
              <a:t>William Glasser</a:t>
            </a:r>
            <a:r>
              <a:rPr b="0" i="1" lang="en-AU" sz="2200" spc="-1" strike="noStrike">
                <a:solidFill>
                  <a:srgbClr val="000000"/>
                </a:solidFill>
                <a:latin typeface="Constantia"/>
              </a:rPr>
              <a:t> </a:t>
            </a:r>
            <a:br>
              <a:rPr sz="2200"/>
            </a:br>
            <a:r>
              <a:rPr b="0" i="1" lang="en-AU"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Understanding and using </a:t>
            </a:r>
            <a:r>
              <a:rPr b="0" lang="en-AU" sz="2200" spc="-1" strike="noStrike">
                <a:solidFill>
                  <a:srgbClr val="000000"/>
                </a:solidFill>
                <a:latin typeface="Constantia"/>
              </a:rPr>
              <a:t>– use the information and skills being taught- share and discuss learning with parents /guardian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Non coercive discipline</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human behaviour is purposeful</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are responsible fro our own behaviou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behaviour attempts to satisfy 5 basic needs</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n needs are met = pleasure; frustration when they are not</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will not commit to learning if the experience is boring, frustrating or dissatisfying</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Quality conditions need to be created</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urriculum should be relevant and meaningful to students lives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hat do you think?</a:t>
            </a:r>
            <a:endParaRPr b="0" lang="en-US" sz="5000" spc="-1" strike="noStrike">
              <a:solidFill>
                <a:srgbClr val="04617b"/>
              </a:solidFill>
              <a:latin typeface="Calibri"/>
            </a:endParaRPr>
          </a:p>
        </p:txBody>
      </p:sp>
      <p:sp>
        <p:nvSpPr>
          <p:cNvPr id="208" name=""/>
          <p:cNvSpPr txBox="1"/>
          <p:nvPr/>
        </p:nvSpPr>
        <p:spPr>
          <a:xfrm>
            <a:off x="457200" y="1934640"/>
            <a:ext cx="8229600" cy="113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haviour in school will not improve until we change the way we work with students</a:t>
            </a:r>
            <a:endParaRPr b="0" lang="en-US" sz="2600" spc="-1" strike="noStrike">
              <a:solidFill>
                <a:srgbClr val="000000"/>
              </a:solidFill>
              <a:latin typeface="Constantia"/>
            </a:endParaRPr>
          </a:p>
        </p:txBody>
      </p:sp>
      <p:pic>
        <p:nvPicPr>
          <p:cNvPr id="209" name="Picture 10" descr="academics,answers,classrooms,desks,iStockphoto,raised hands,rows,students,teachers,education,knowledge"/>
          <p:cNvPicPr/>
          <p:nvPr/>
        </p:nvPicPr>
        <p:blipFill>
          <a:blip r:embed="rId1"/>
          <a:stretch/>
        </p:blipFill>
        <p:spPr>
          <a:xfrm>
            <a:off x="2771640" y="2924280"/>
            <a:ext cx="3095640" cy="309564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tandards of Conduct</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stablish class standards of conduct</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iscuss what behaviours will allow quality learning to take place</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etermine consequences</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ut in writing – all students sign the code stating they understand it</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Hold classroom meetings to explore alternatives to inappropriate behaviour</a:t>
            </a:r>
            <a:endParaRPr b="0" lang="en-US" sz="2600" spc="-1" strike="noStrike">
              <a:solidFill>
                <a:srgbClr val="000000"/>
              </a:solidFill>
              <a:latin typeface="Constantia"/>
            </a:endParaRPr>
          </a:p>
          <a:p>
            <a:pPr marL="259200" indent="-2592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Bradley Hand ITC"/>
              </a:rPr>
              <a:t>‘</a:t>
            </a:r>
            <a:r>
              <a:rPr b="0" lang="en-AU" sz="5400" spc="-1" strike="noStrike">
                <a:solidFill>
                  <a:srgbClr val="ff0000"/>
                </a:solidFill>
                <a:latin typeface="Bradley Hand ITC"/>
              </a:rPr>
              <a:t>What can I do to help?’</a:t>
            </a:r>
            <a:endParaRPr b="0" lang="en-US" sz="5400" spc="-1" strike="noStrike">
              <a:solidFill>
                <a:srgbClr val="000000"/>
              </a:solidFill>
              <a:latin typeface="Constantia"/>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4617b"/>
                </a:solidFill>
                <a:latin typeface="Calibri"/>
              </a:rPr>
              <a:t>The Ten Axioms of Choice Theory</a:t>
            </a:r>
            <a:endParaRPr b="0" lang="en-US" sz="44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only person whose behavior we can control is our ow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we can give another person is informatio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long-lasting psychological problems are relationship problems.</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problem relationship is always part of our present lif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What happened in the past has everything to do with what we are today, but we can only satisfy our basic needs right now and plan to continue satisfying them in the futur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9280" y="704520"/>
            <a:ext cx="878544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900" spc="-1" strike="noStrike">
                <a:solidFill>
                  <a:srgbClr val="04617b"/>
                </a:solidFill>
                <a:latin typeface="Calibri"/>
              </a:rPr>
              <a:t>The Ten Axioms of Choice Theory</a:t>
            </a:r>
            <a:endParaRPr b="0" lang="en-US" sz="4900" spc="-1" strike="noStrike">
              <a:solidFill>
                <a:srgbClr val="04617b"/>
              </a:solidFill>
              <a:latin typeface="Calibri"/>
            </a:endParaRPr>
          </a:p>
        </p:txBody>
      </p:sp>
      <p:sp>
        <p:nvSpPr>
          <p:cNvPr id="272" name=""/>
          <p:cNvSpPr txBox="1"/>
          <p:nvPr/>
        </p:nvSpPr>
        <p:spPr>
          <a:xfrm>
            <a:off x="457200" y="1484280"/>
            <a:ext cx="8229600" cy="518472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e can only satisfy our needs by satisfying the pictures in our Quality World.</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we do is behave.</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behaviour is Total Behaviour and is made up of four components: acting, thinking, feeling and physiology - In most situations, people are more tuned in to their feelings than their actions, thoughts, or physiology.</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chosen, but we only have direct control over the acting and thinking components. We can only control our feeling and physiology indirectly through how we choose to act and think.</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designated by verbs and named by the part that is the most recognizable.  </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1.  Doing (e.g., walking, talk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2. Thinking (e.g., reasoning, fantasiz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3. Feeling (e.g., angering, depress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4. Physiology (e.g., sweating, headaching)</a:t>
            </a:r>
            <a:br>
              <a:rPr sz="1800"/>
            </a:br>
            <a:br>
              <a:rPr sz="1800"/>
            </a:b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nstantia"/>
              </a:rPr>
              <a:t>Glasser says that one way to improve behaviour is through clarifying what a quality existence would be like and then planning the choices that would help bring about that existence</a:t>
            </a:r>
            <a:endParaRPr b="0" lang="en-US" sz="4000" spc="-1" strike="noStrike">
              <a:solidFill>
                <a:srgbClr val="000000"/>
              </a:solidFill>
              <a:latin typeface="Constantia"/>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95280" y="126792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Write down 2 things you feel would contribute to </a:t>
            </a:r>
            <a:r>
              <a:rPr b="0" i="1" lang="en-AU" sz="4400" spc="-1" strike="noStrike">
                <a:solidFill>
                  <a:srgbClr val="ff0000"/>
                </a:solidFill>
                <a:latin typeface="Constantia"/>
              </a:rPr>
              <a:t>quality</a:t>
            </a:r>
            <a:r>
              <a:rPr b="0" lang="en-AU" sz="4400" spc="-1" strike="noStrike">
                <a:solidFill>
                  <a:srgbClr val="000000"/>
                </a:solidFill>
                <a:latin typeface="Constantia"/>
              </a:rPr>
              <a:t> in your </a:t>
            </a:r>
            <a:r>
              <a:rPr b="0" i="1" lang="en-AU" sz="4400" spc="-1" strike="noStrike">
                <a:solidFill>
                  <a:srgbClr val="ff0000"/>
                </a:solidFill>
                <a:latin typeface="Constantia"/>
              </a:rPr>
              <a:t>own teaching</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Identify 2 choices you could make related to each of the above </a:t>
            </a:r>
            <a:endParaRPr b="0" lang="en-US" sz="4400" spc="-1" strike="noStrike">
              <a:solidFill>
                <a:srgbClr val="000000"/>
              </a:solidFill>
              <a:latin typeface="Constanti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Dr. William Glasser</a:t>
            </a:r>
            <a:r>
              <a:rPr b="0" lang="en-AU" sz="5000" spc="-1" strike="noStrike">
                <a:solidFill>
                  <a:srgbClr val="04617b"/>
                </a:solidFill>
                <a:latin typeface="Calibri"/>
              </a:rPr>
              <a:t>	</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rominent psychiatris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a:t>
            </a:r>
            <a:r>
              <a:rPr b="1" lang="en-AU" sz="2600" spc="-1" strike="noStrike">
                <a:solidFill>
                  <a:srgbClr val="000000"/>
                </a:solidFill>
                <a:latin typeface="Constantia"/>
              </a:rPr>
              <a:t>You cannot ‘make’ your students work hard. In fact, if what you do is not satisfying, you cannot even ‘make’ yourself work hard.’</a:t>
            </a:r>
            <a:endParaRPr b="0" lang="en-US" sz="2600" spc="-1" strike="noStrike">
              <a:solidFill>
                <a:srgbClr val="000000"/>
              </a:solidFill>
              <a:latin typeface="Constantia"/>
            </a:endParaRPr>
          </a:p>
        </p:txBody>
      </p:sp>
      <p:pic>
        <p:nvPicPr>
          <p:cNvPr id="212" name="Picture 5" descr="Dr. William Glasser"/>
          <p:cNvPicPr/>
          <p:nvPr/>
        </p:nvPicPr>
        <p:blipFill>
          <a:blip r:embed="rId1"/>
          <a:stretch/>
        </p:blipFill>
        <p:spPr>
          <a:xfrm>
            <a:off x="5940360" y="333360"/>
            <a:ext cx="2210040" cy="201600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illiam Glasser</a:t>
            </a:r>
            <a:endParaRPr b="0" lang="en-US" sz="5000" spc="-1" strike="noStrike">
              <a:solidFill>
                <a:srgbClr val="04617b"/>
              </a:solidFill>
              <a:latin typeface="Calibri"/>
            </a:endParaRPr>
          </a:p>
        </p:txBody>
      </p:sp>
      <p:sp>
        <p:nvSpPr>
          <p:cNvPr id="214" name=""/>
          <p:cNvSpPr txBox="1"/>
          <p:nvPr/>
        </p:nvSpPr>
        <p:spPr>
          <a:xfrm>
            <a:off x="900000" y="1557000"/>
            <a:ext cx="7772400" cy="4530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asser came to the conclusion that genetically we are </a:t>
            </a:r>
            <a:r>
              <a:rPr b="0" lang="en-US" sz="2600" spc="-1" strike="noStrike" u="sng">
                <a:solidFill>
                  <a:srgbClr val="000000"/>
                </a:solidFill>
                <a:uFillTx/>
                <a:latin typeface="Constantia"/>
              </a:rPr>
              <a:t>social creatures</a:t>
            </a:r>
            <a:r>
              <a:rPr b="0" lang="en-US" sz="2600" spc="-1" strike="noStrike">
                <a:solidFill>
                  <a:srgbClr val="000000"/>
                </a:solidFill>
                <a:latin typeface="Constantia"/>
              </a:rPr>
              <a:t> and need each other and that the cause of almost all psychological issues is:</a:t>
            </a: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dd9"/>
                </a:solidFill>
                <a:latin typeface="Constantia"/>
              </a:rPr>
              <a:t>	</a:t>
            </a:r>
            <a:r>
              <a:rPr b="0" lang="en-US" sz="2100" spc="-1" strike="noStrike">
                <a:solidFill>
                  <a:srgbClr val="009dd9"/>
                </a:solidFill>
                <a:latin typeface="Constantia"/>
              </a:rPr>
              <a:t>“</a:t>
            </a:r>
            <a:r>
              <a:rPr b="0" lang="en-US" sz="2100" spc="-1" strike="noStrike">
                <a:solidFill>
                  <a:srgbClr val="009dd9"/>
                </a:solidFill>
                <a:latin typeface="Constantia"/>
              </a:rPr>
              <a:t>our inability to get along with the important people in our lives” </a:t>
            </a:r>
            <a:endParaRPr b="0" lang="en-US" sz="2100" spc="-1" strike="noStrike">
              <a:solidFill>
                <a:srgbClr val="000000"/>
              </a:solidFill>
              <a:latin typeface="Constantia"/>
            </a:endParaRPr>
          </a:p>
        </p:txBody>
      </p:sp>
      <p:sp>
        <p:nvSpPr>
          <p:cNvPr id="215" name="Freeform 4"/>
          <p:cNvSpPr/>
          <p:nvPr/>
        </p:nvSpPr>
        <p:spPr>
          <a:xfrm>
            <a:off x="3840120" y="4087800"/>
            <a:ext cx="4446720" cy="1760400"/>
          </a:xfrm>
          <a:custGeom>
            <a:avLst/>
            <a:gdLst>
              <a:gd name="textAreaLeft" fmla="*/ 0 w 4446720"/>
              <a:gd name="textAreaRight" fmla="*/ 4447080 w 4446720"/>
              <a:gd name="textAreaTop" fmla="*/ 0 h 1760400"/>
              <a:gd name="textAreaBottom" fmla="*/ 1760760 h 1760400"/>
            </a:gdLst>
            <a:ahLst/>
            <a:rect l="textAreaLeft" t="textAreaTop" r="textAreaRight" b="textAreaBottom"/>
            <a:pathLst>
              <a:path w="2101" h="1479">
                <a:moveTo>
                  <a:pt x="54" y="0"/>
                </a:moveTo>
                <a:cubicBezTo>
                  <a:pt x="117" y="11"/>
                  <a:pt x="172" y="38"/>
                  <a:pt x="233" y="54"/>
                </a:cubicBezTo>
                <a:cubicBezTo>
                  <a:pt x="308" y="106"/>
                  <a:pt x="172" y="14"/>
                  <a:pt x="311" y="93"/>
                </a:cubicBezTo>
                <a:cubicBezTo>
                  <a:pt x="340" y="110"/>
                  <a:pt x="386" y="149"/>
                  <a:pt x="412" y="171"/>
                </a:cubicBezTo>
                <a:cubicBezTo>
                  <a:pt x="490" y="325"/>
                  <a:pt x="414" y="475"/>
                  <a:pt x="311" y="591"/>
                </a:cubicBezTo>
                <a:cubicBezTo>
                  <a:pt x="235" y="676"/>
                  <a:pt x="314" y="589"/>
                  <a:pt x="264" y="661"/>
                </a:cubicBezTo>
                <a:cubicBezTo>
                  <a:pt x="229" y="712"/>
                  <a:pt x="183" y="751"/>
                  <a:pt x="148" y="801"/>
                </a:cubicBezTo>
                <a:cubicBezTo>
                  <a:pt x="141" y="811"/>
                  <a:pt x="139" y="823"/>
                  <a:pt x="132" y="833"/>
                </a:cubicBezTo>
                <a:cubicBezTo>
                  <a:pt x="77" y="907"/>
                  <a:pt x="21" y="964"/>
                  <a:pt x="0" y="1058"/>
                </a:cubicBezTo>
                <a:cubicBezTo>
                  <a:pt x="5" y="1094"/>
                  <a:pt x="8" y="1131"/>
                  <a:pt x="15" y="1167"/>
                </a:cubicBezTo>
                <a:cubicBezTo>
                  <a:pt x="38" y="1280"/>
                  <a:pt x="120" y="1323"/>
                  <a:pt x="210" y="1370"/>
                </a:cubicBezTo>
                <a:cubicBezTo>
                  <a:pt x="301" y="1367"/>
                  <a:pt x="391" y="1367"/>
                  <a:pt x="482" y="1362"/>
                </a:cubicBezTo>
                <a:cubicBezTo>
                  <a:pt x="512" y="1360"/>
                  <a:pt x="535" y="1344"/>
                  <a:pt x="560" y="1331"/>
                </a:cubicBezTo>
                <a:cubicBezTo>
                  <a:pt x="615" y="1303"/>
                  <a:pt x="670" y="1285"/>
                  <a:pt x="731" y="1276"/>
                </a:cubicBezTo>
                <a:cubicBezTo>
                  <a:pt x="774" y="1262"/>
                  <a:pt x="820" y="1259"/>
                  <a:pt x="864" y="1253"/>
                </a:cubicBezTo>
                <a:cubicBezTo>
                  <a:pt x="924" y="1256"/>
                  <a:pt x="984" y="1255"/>
                  <a:pt x="1043" y="1261"/>
                </a:cubicBezTo>
                <a:cubicBezTo>
                  <a:pt x="1107" y="1267"/>
                  <a:pt x="1187" y="1291"/>
                  <a:pt x="1253" y="1307"/>
                </a:cubicBezTo>
                <a:cubicBezTo>
                  <a:pt x="1331" y="1326"/>
                  <a:pt x="1393" y="1385"/>
                  <a:pt x="1471" y="1401"/>
                </a:cubicBezTo>
                <a:cubicBezTo>
                  <a:pt x="1497" y="1418"/>
                  <a:pt x="1511" y="1438"/>
                  <a:pt x="1541" y="1447"/>
                </a:cubicBezTo>
                <a:cubicBezTo>
                  <a:pt x="1567" y="1465"/>
                  <a:pt x="1588" y="1471"/>
                  <a:pt x="1619" y="1479"/>
                </a:cubicBezTo>
                <a:cubicBezTo>
                  <a:pt x="1735" y="1471"/>
                  <a:pt x="1718" y="1479"/>
                  <a:pt x="1790" y="1432"/>
                </a:cubicBezTo>
                <a:cubicBezTo>
                  <a:pt x="1805" y="1393"/>
                  <a:pt x="1819" y="1355"/>
                  <a:pt x="1829" y="1315"/>
                </a:cubicBezTo>
                <a:cubicBezTo>
                  <a:pt x="1821" y="1163"/>
                  <a:pt x="1815" y="1085"/>
                  <a:pt x="1821" y="926"/>
                </a:cubicBezTo>
                <a:cubicBezTo>
                  <a:pt x="1831" y="934"/>
                  <a:pt x="1841" y="942"/>
                  <a:pt x="1852" y="949"/>
                </a:cubicBezTo>
                <a:cubicBezTo>
                  <a:pt x="1870" y="960"/>
                  <a:pt x="1890" y="968"/>
                  <a:pt x="1907" y="980"/>
                </a:cubicBezTo>
                <a:cubicBezTo>
                  <a:pt x="1916" y="986"/>
                  <a:pt x="1952" y="1020"/>
                  <a:pt x="1969" y="1027"/>
                </a:cubicBezTo>
                <a:cubicBezTo>
                  <a:pt x="1992" y="1036"/>
                  <a:pt x="2018" y="1037"/>
                  <a:pt x="2039" y="1050"/>
                </a:cubicBezTo>
                <a:cubicBezTo>
                  <a:pt x="2085" y="1078"/>
                  <a:pt x="2063" y="1074"/>
                  <a:pt x="2101" y="1074"/>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Picture 6" descr="social-media-marketing"/>
          <p:cNvPicPr/>
          <p:nvPr/>
        </p:nvPicPr>
        <p:blipFill>
          <a:blip r:embed="rId1"/>
          <a:stretch/>
        </p:blipFill>
        <p:spPr>
          <a:xfrm>
            <a:off x="2747880" y="4076640"/>
            <a:ext cx="4280040" cy="21938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4617b"/>
                </a:solidFill>
                <a:latin typeface="Calibri"/>
              </a:rPr>
              <a:t>Choice Theory -  main focus</a:t>
            </a:r>
            <a:endParaRPr b="0" lang="en-US" sz="4400" spc="-1" strike="noStrike">
              <a:solidFill>
                <a:srgbClr val="04617b"/>
              </a:solidFill>
              <a:latin typeface="Calibri"/>
            </a:endParaRPr>
          </a:p>
        </p:txBody>
      </p:sp>
      <p:sp>
        <p:nvSpPr>
          <p:cNvPr id="218" name=""/>
          <p:cNvSpPr txBox="1"/>
          <p:nvPr/>
        </p:nvSpPr>
        <p:spPr>
          <a:xfrm>
            <a:off x="468360" y="1844280"/>
            <a:ext cx="8229600" cy="4389480"/>
          </a:xfrm>
          <a:prstGeom prst="rect">
            <a:avLst/>
          </a:prstGeom>
          <a:noFill/>
          <a:ln w="0">
            <a:noFill/>
          </a:ln>
        </p:spPr>
        <p:txBody>
          <a:bodyPr anchor="t">
            <a:normAutofit fontScale="98000"/>
          </a:bodyPr>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1 – to provide a classroom environment and curriculum which motivates students and reduces inappropriate behaviour by meeting students’ basic needs for</a:t>
            </a:r>
            <a:endParaRPr b="0" lang="en-US" sz="2600" spc="-1" strike="noStrike">
              <a:solidFill>
                <a:srgbClr val="000000"/>
              </a:solidFill>
              <a:latin typeface="Constantia"/>
            </a:endParaRPr>
          </a:p>
          <a:p>
            <a:pPr marL="267120" indent="-2671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longing</a:t>
            </a:r>
            <a:endParaRPr b="0" lang="en-US" sz="2600" spc="-1" strike="noStrike">
              <a:solidFill>
                <a:srgbClr val="000000"/>
              </a:solidFill>
              <a:latin typeface="Constantia"/>
            </a:endParaRPr>
          </a:p>
          <a:p>
            <a:pPr marL="267120" indent="-2671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wer</a:t>
            </a:r>
            <a:endParaRPr b="0" lang="en-US" sz="2600" spc="-1" strike="noStrike">
              <a:solidFill>
                <a:srgbClr val="000000"/>
              </a:solidFill>
              <a:latin typeface="Constantia"/>
            </a:endParaRPr>
          </a:p>
          <a:p>
            <a:pPr marL="267120" indent="-2671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a:t>
            </a:r>
            <a:endParaRPr b="0" lang="en-US" sz="2600" spc="-1" strike="noStrike">
              <a:solidFill>
                <a:srgbClr val="000000"/>
              </a:solidFill>
              <a:latin typeface="Constantia"/>
            </a:endParaRPr>
          </a:p>
          <a:p>
            <a:pPr marL="267120" indent="-26712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reedom</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2 – to help students make appropriate behavioural choices that will lead the to personal success</a:t>
            </a:r>
            <a:endParaRPr b="0" lang="en-US" sz="26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Glasser’s Main Contention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human behaviour is purposefu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motivated internally and is chose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our best attempt to satisfy one of 5 basic need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make the best choices we can given the information we hav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are responsible for our own behaviour</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students can do competent work and some quality work</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ffective discipline &amp; motivation go hand in hand to meet basic needs</a:t>
            </a:r>
            <a:endParaRPr b="0" lang="en-US" sz="2600" spc="-1" strike="noStrike">
              <a:solidFill>
                <a:srgbClr val="000000"/>
              </a:solidFill>
              <a:latin typeface="Constanti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22" name="Rectangle 3"/>
          <p:cNvSpPr/>
          <p:nvPr/>
        </p:nvSpPr>
        <p:spPr>
          <a:xfrm>
            <a:off x="1332000" y="2421000"/>
            <a:ext cx="63356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rite down a list of what you believe are the basic needs that all humans have (5)</a:t>
            </a:r>
            <a:endParaRPr b="0" lang="en-US" sz="44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The 5 needs of the children you teach</a:t>
            </a:r>
            <a:endParaRPr b="0" lang="en-US" sz="45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living creatures control their behaviour to fulfil their need for satisfaction in one or more of these five area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rvival, safety and secu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Love, belonging and accep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ersonal power, competenc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reedom, independence and autonom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 and learning</a:t>
            </a:r>
            <a:endParaRPr b="0" lang="en-US" sz="2600" spc="-1" strike="noStrike">
              <a:solidFill>
                <a:srgbClr val="000000"/>
              </a:solidFill>
              <a:latin typeface="Constanti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8:12:44Z</dcterms:created>
  <dc:creator>IT&amp;S</dc:creator>
  <dc:description/>
  <dc:language>en-US</dc:language>
  <cp:lastModifiedBy>ITS</cp:lastModifiedBy>
  <dcterms:modified xsi:type="dcterms:W3CDTF">2011-09-07T01:49:15Z</dcterms:modified>
  <cp:revision>103</cp:revision>
  <dc:subject/>
  <dc:title>Classroom Management</dc:title>
</cp:coreProperties>
</file>